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gif" ContentType="image/gif"/>
  <Override PartName="/ppt/media/image6.png" ContentType="image/png"/>
  <Override PartName="/ppt/media/image3.gif" ContentType="image/gif"/>
  <Override PartName="/ppt/media/image7.png" ContentType="image/png"/>
  <Override PartName="/ppt/media/image4.png" ContentType="image/png"/>
  <Override PartName="/ppt/media/image8.png" ContentType="image/png"/>
  <Override PartName="/ppt/media/image11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DBF69-E7D1-4123-8B30-5CA9D8ED7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767F5-1F9F-46E3-BEFD-D303C40CC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F016C-2922-485B-BCD5-8841D4BCD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681DD-EE7D-4ACD-A20C-713A46977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506BF-B374-4A59-B072-7755348F7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5A705-4F40-44C5-BC11-54976E56C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49AC7-CAC8-408E-8AEC-4940782EF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D7DCE-77F5-47A8-B96E-5CAA567E1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15FD6-2AAD-4993-9CA5-FF3BF822A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14E14-B683-4A58-849E-E0C303968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A715A-CCC0-44CC-AED1-14B5D1BFD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43528-C035-42CB-8F0D-692DE2643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959BF-CCAC-448F-B01D-AFD094AB4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D2B47-7C26-4237-AEBE-AD92FFACD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A7E76-25E4-494A-82D9-8D4935C47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8BD10-E2A8-4A2F-A505-A3437E32C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3C2BE-E3F9-4433-BA7E-DB0FA8D72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79CE7-D437-4EBB-A63D-01BC0CF16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787D5-5E11-4801-A5AB-8DBB24F8B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9E4BE-1B2F-4A17-81D8-D2548E79E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0A559-5070-4767-BA75-65A5930B9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9F48A-31BA-49B8-B2EA-51F57631C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B23AE-D1AA-4635-B1EE-AC8E95FDC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1968F-36DD-41C5-BB1E-E6EBDAC71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869D1-751A-4CBD-9762-64D99F8AB706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EA10E-E4C7-4AF9-B8B4-626772531A18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38" descr="Image008"/>
          <p:cNvPicPr/>
          <p:nvPr/>
        </p:nvPicPr>
        <p:blipFill>
          <a:blip r:embed="rId1"/>
          <a:stretch/>
        </p:blipFill>
        <p:spPr>
          <a:xfrm>
            <a:off x="1908000" y="2492280"/>
            <a:ext cx="5328000" cy="3996000"/>
          </a:xfrm>
          <a:prstGeom prst="rect">
            <a:avLst/>
          </a:prstGeom>
          <a:ln w="0">
            <a:noFill/>
          </a:ln>
        </p:spPr>
      </p:pic>
      <p:sp>
        <p:nvSpPr>
          <p:cNvPr id="98" name="Text Box 39"/>
          <p:cNvSpPr/>
          <p:nvPr/>
        </p:nvSpPr>
        <p:spPr>
          <a:xfrm>
            <a:off x="720720" y="260280"/>
            <a:ext cx="842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40"/>
          <p:cNvSpPr/>
          <p:nvPr/>
        </p:nvSpPr>
        <p:spPr>
          <a:xfrm>
            <a:off x="555480" y="44280"/>
            <a:ext cx="8588520" cy="23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втор презент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шноков А.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читель математики и информатик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КОУ «СОШ им. Х. Х. Долова» с. п. Хатуе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ескенского района КБ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41">
            <a:hlinkClick r:id="" action="ppaction://hlinkshowjump?jump=nextslide"/>
          </p:cNvPr>
          <p:cNvSpPr/>
          <p:nvPr/>
        </p:nvSpPr>
        <p:spPr>
          <a:xfrm>
            <a:off x="8388360" y="609300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178920" y="981000"/>
            <a:ext cx="482436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43160" indent="-443160"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зовите некоторые форматы универсальных графических файл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зовите некоторые форматы оригинальных графических файл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зовите некоторые форматы растровых графических файл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стровым или векторным редактором является Pai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866920" y="1125360"/>
            <a:ext cx="2730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009900"/>
              </a:buClr>
              <a:buSzPct val="90000"/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Arial"/>
              </a:rPr>
              <a:t>ВМР,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WMF</a:t>
            </a:r>
            <a:r>
              <a:rPr b="1" lang="ru-RU" sz="2400" spc="-1" strike="noStrike">
                <a:solidFill>
                  <a:srgbClr val="0099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9900"/>
              </a:buClr>
              <a:buSzPct val="90000"/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CD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9900"/>
              </a:buClr>
              <a:buSzPct val="90000"/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TIFF,GIF,PNG,JPE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9900"/>
              </a:buClr>
              <a:buSzPct val="90000"/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Arial"/>
              </a:rPr>
              <a:t>Растровы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опрос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тветы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4"/>
          <p:cNvSpPr/>
          <p:nvPr/>
        </p:nvSpPr>
        <p:spPr>
          <a:xfrm>
            <a:off x="752400" y="333360"/>
            <a:ext cx="8391600" cy="594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V.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Изучение новой темы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новные приемы работы в Pai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Paint является растровым графическим редактором, это значит что, изображение строится из точек различных цветов. Соответственно и инструменты для работы с графикой будут как у художника. Напомню, что векторная графика базируется на математических формула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39">
            <a:hlinkClick r:id="" action="ppaction://hlinkshowjump?jump=previousslide"/>
          </p:cNvPr>
          <p:cNvSpPr/>
          <p:nvPr/>
        </p:nvSpPr>
        <p:spPr>
          <a:xfrm>
            <a:off x="7093080" y="6093000"/>
            <a:ext cx="503280" cy="50472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62">
                <a:moveTo>
                  <a:pt x="0" y="0"/>
                </a:moveTo>
                <a:lnTo>
                  <a:pt x="21600" y="0"/>
                </a:lnTo>
                <a:lnTo>
                  <a:pt x="21600" y="21662"/>
                </a:lnTo>
                <a:lnTo>
                  <a:pt x="0" y="21662"/>
                </a:lnTo>
                <a:close/>
              </a:path>
              <a:path fill="lightenLess" w="21600" h="2166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62">
                <a:moveTo>
                  <a:pt x="21600" y="0"/>
                </a:moveTo>
                <a:lnTo>
                  <a:pt x="21600" y="21662"/>
                </a:lnTo>
                <a:lnTo>
                  <a:pt x="20200" y="20262"/>
                </a:lnTo>
                <a:lnTo>
                  <a:pt x="20200" y="1400"/>
                </a:lnTo>
                <a:close/>
              </a:path>
              <a:path fill="darkenLess" w="21600" h="21662">
                <a:moveTo>
                  <a:pt x="21600" y="21662"/>
                </a:moveTo>
                <a:lnTo>
                  <a:pt x="0" y="21662"/>
                </a:lnTo>
                <a:lnTo>
                  <a:pt x="1400" y="20262"/>
                </a:lnTo>
                <a:lnTo>
                  <a:pt x="20200" y="20262"/>
                </a:lnTo>
                <a:close/>
              </a:path>
              <a:path fill="lighten" w="21600" h="21662">
                <a:moveTo>
                  <a:pt x="0" y="21662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62"/>
                </a:lnTo>
                <a:close/>
              </a:path>
              <a:path fill="darken" w="21600" h="21662">
                <a:moveTo>
                  <a:pt x="3794" y="10831"/>
                </a:moveTo>
                <a:lnTo>
                  <a:pt x="17806" y="3824"/>
                </a:lnTo>
                <a:lnTo>
                  <a:pt x="17806" y="17837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41">
            <a:hlinkClick r:id="" action="ppaction://hlinkshowjump?jump=nextslide"/>
          </p:cNvPr>
          <p:cNvSpPr/>
          <p:nvPr/>
        </p:nvSpPr>
        <p:spPr>
          <a:xfrm>
            <a:off x="8244000" y="609300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42">
            <a:hlinkClick r:id="" action="ppaction://hlinkshowjump?jump=firstslide"/>
          </p:cNvPr>
          <p:cNvSpPr/>
          <p:nvPr/>
        </p:nvSpPr>
        <p:spPr>
          <a:xfrm>
            <a:off x="7667640" y="609300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0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4"/>
          <p:cNvSpPr/>
          <p:nvPr/>
        </p:nvSpPr>
        <p:spPr>
          <a:xfrm>
            <a:off x="324000" y="1341360"/>
            <a:ext cx="86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авайте подробно рассмотрим инструменты, которые предоставляет нам Paint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7" descr="глаза"/>
          <p:cNvPicPr/>
          <p:nvPr/>
        </p:nvPicPr>
        <p:blipFill>
          <a:blip r:embed="rId1"/>
          <a:stretch/>
        </p:blipFill>
        <p:spPr>
          <a:xfrm>
            <a:off x="3348000" y="0"/>
            <a:ext cx="2381400" cy="981000"/>
          </a:xfrm>
          <a:prstGeom prst="rect">
            <a:avLst/>
          </a:prstGeom>
          <a:ln w="0">
            <a:noFill/>
          </a:ln>
        </p:spPr>
      </p:pic>
      <p:sp>
        <p:nvSpPr>
          <p:cNvPr id="139" name="AutoShape 8">
            <a:hlinkClick r:id="" action="ppaction://hlinkshowjump?jump=previousslide"/>
          </p:cNvPr>
          <p:cNvSpPr/>
          <p:nvPr/>
        </p:nvSpPr>
        <p:spPr>
          <a:xfrm>
            <a:off x="7020000" y="6093000"/>
            <a:ext cx="503280" cy="50472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62">
                <a:moveTo>
                  <a:pt x="0" y="0"/>
                </a:moveTo>
                <a:lnTo>
                  <a:pt x="21600" y="0"/>
                </a:lnTo>
                <a:lnTo>
                  <a:pt x="21600" y="21662"/>
                </a:lnTo>
                <a:lnTo>
                  <a:pt x="0" y="21662"/>
                </a:lnTo>
                <a:close/>
              </a:path>
              <a:path fill="lightenLess" w="21600" h="2166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62">
                <a:moveTo>
                  <a:pt x="21600" y="0"/>
                </a:moveTo>
                <a:lnTo>
                  <a:pt x="21600" y="21662"/>
                </a:lnTo>
                <a:lnTo>
                  <a:pt x="20200" y="20262"/>
                </a:lnTo>
                <a:lnTo>
                  <a:pt x="20200" y="1400"/>
                </a:lnTo>
                <a:close/>
              </a:path>
              <a:path fill="darkenLess" w="21600" h="21662">
                <a:moveTo>
                  <a:pt x="21600" y="21662"/>
                </a:moveTo>
                <a:lnTo>
                  <a:pt x="0" y="21662"/>
                </a:lnTo>
                <a:lnTo>
                  <a:pt x="1400" y="20262"/>
                </a:lnTo>
                <a:lnTo>
                  <a:pt x="20200" y="20262"/>
                </a:lnTo>
                <a:close/>
              </a:path>
              <a:path fill="lighten" w="21600" h="21662">
                <a:moveTo>
                  <a:pt x="0" y="21662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62"/>
                </a:lnTo>
                <a:close/>
              </a:path>
              <a:path fill="darken" w="21600" h="21662">
                <a:moveTo>
                  <a:pt x="3794" y="10831"/>
                </a:moveTo>
                <a:lnTo>
                  <a:pt x="17806" y="3824"/>
                </a:lnTo>
                <a:lnTo>
                  <a:pt x="17806" y="17837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10">
            <a:hlinkClick r:id="" action="ppaction://hlinkshowjump?jump=nextslide"/>
          </p:cNvPr>
          <p:cNvSpPr/>
          <p:nvPr/>
        </p:nvSpPr>
        <p:spPr>
          <a:xfrm>
            <a:off x="8172360" y="6093000"/>
            <a:ext cx="505080" cy="50472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5" h="21600">
                <a:moveTo>
                  <a:pt x="3801" y="3794"/>
                </a:moveTo>
                <a:lnTo>
                  <a:pt x="17814" y="10800"/>
                </a:lnTo>
                <a:lnTo>
                  <a:pt x="3801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13" descr="Безымянный1"/>
          <p:cNvPicPr/>
          <p:nvPr/>
        </p:nvPicPr>
        <p:blipFill>
          <a:blip r:embed="rId2"/>
          <a:stretch/>
        </p:blipFill>
        <p:spPr>
          <a:xfrm>
            <a:off x="4356000" y="2205000"/>
            <a:ext cx="1608120" cy="436572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14"/>
          <p:cNvSpPr/>
          <p:nvPr/>
        </p:nvSpPr>
        <p:spPr>
          <a:xfrm>
            <a:off x="6948360" y="2060640"/>
            <a:ext cx="1800360" cy="647640"/>
          </a:xfrm>
          <a:prstGeom prst="wedgeRectCallout">
            <a:avLst>
              <a:gd name="adj1" fmla="val -101763"/>
              <a:gd name="adj2" fmla="val 5148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ыделяющие инструмен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15"/>
          <p:cNvSpPr/>
          <p:nvPr/>
        </p:nvSpPr>
        <p:spPr>
          <a:xfrm>
            <a:off x="5867280" y="2276640"/>
            <a:ext cx="73080" cy="288720"/>
          </a:xfrm>
          <a:custGeom>
            <a:avLst/>
            <a:gdLst>
              <a:gd name="textAreaLeft" fmla="*/ 0 w 73080"/>
              <a:gd name="textAreaRight" fmla="*/ 26280 w 73080"/>
              <a:gd name="textAreaTop" fmla="*/ 7200 h 288720"/>
              <a:gd name="textAreaBottom" fmla="*/ 28152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16"/>
          <p:cNvSpPr/>
          <p:nvPr/>
        </p:nvSpPr>
        <p:spPr>
          <a:xfrm>
            <a:off x="5867280" y="3284640"/>
            <a:ext cx="73080" cy="431640"/>
          </a:xfrm>
          <a:custGeom>
            <a:avLst/>
            <a:gdLst>
              <a:gd name="textAreaLeft" fmla="*/ 0 w 73080"/>
              <a:gd name="textAreaRight" fmla="*/ 26280 w 73080"/>
              <a:gd name="textAreaTop" fmla="*/ 11160 h 431640"/>
              <a:gd name="textAreaBottom" fmla="*/ 42048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17"/>
          <p:cNvSpPr/>
          <p:nvPr/>
        </p:nvSpPr>
        <p:spPr>
          <a:xfrm>
            <a:off x="6948360" y="2924280"/>
            <a:ext cx="1800360" cy="649080"/>
          </a:xfrm>
          <a:prstGeom prst="wedgeRectCallout">
            <a:avLst>
              <a:gd name="adj1" fmla="val -102912"/>
              <a:gd name="adj2" fmla="val 38995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исующие инструмен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18"/>
          <p:cNvSpPr/>
          <p:nvPr/>
        </p:nvSpPr>
        <p:spPr>
          <a:xfrm>
            <a:off x="5867280" y="5229360"/>
            <a:ext cx="144720" cy="863640"/>
          </a:xfrm>
          <a:custGeom>
            <a:avLst/>
            <a:gdLst>
              <a:gd name="textAreaLeft" fmla="*/ 0 w 144720"/>
              <a:gd name="textAreaRight" fmla="*/ 52200 w 144720"/>
              <a:gd name="textAreaTop" fmla="*/ 22320 h 863640"/>
              <a:gd name="textAreaBottom" fmla="*/ 841320 h 86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19"/>
          <p:cNvSpPr/>
          <p:nvPr/>
        </p:nvSpPr>
        <p:spPr>
          <a:xfrm>
            <a:off x="6948360" y="5300640"/>
            <a:ext cx="1800360" cy="649440"/>
          </a:xfrm>
          <a:prstGeom prst="wedgeRectCallout">
            <a:avLst>
              <a:gd name="adj1" fmla="val -100527"/>
              <a:gd name="adj2" fmla="val -120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ыделяющие инструмен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20">
            <a:hlinkClick r:id="" action="ppaction://hlinkshowjump?jump=firstslide"/>
          </p:cNvPr>
          <p:cNvSpPr/>
          <p:nvPr/>
        </p:nvSpPr>
        <p:spPr>
          <a:xfrm>
            <a:off x="7596360" y="609300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16"/>
          <p:cNvSpPr/>
          <p:nvPr/>
        </p:nvSpPr>
        <p:spPr>
          <a:xfrm>
            <a:off x="5940360" y="4149720"/>
            <a:ext cx="73080" cy="792000"/>
          </a:xfrm>
          <a:custGeom>
            <a:avLst/>
            <a:gdLst>
              <a:gd name="textAreaLeft" fmla="*/ 0 w 73080"/>
              <a:gd name="textAreaRight" fmla="*/ 26280 w 73080"/>
              <a:gd name="textAreaTop" fmla="*/ 20520 h 792000"/>
              <a:gd name="textAreaBottom" fmla="*/ 771480 h 79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17"/>
          <p:cNvSpPr/>
          <p:nvPr/>
        </p:nvSpPr>
        <p:spPr>
          <a:xfrm>
            <a:off x="6948360" y="3933720"/>
            <a:ext cx="1800360" cy="935280"/>
          </a:xfrm>
          <a:prstGeom prst="wedgeRectCallout">
            <a:avLst>
              <a:gd name="adj1" fmla="val -102912"/>
              <a:gd name="adj2" fmla="val 11629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нструменты создания объект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0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4"/>
          <p:cNvSpPr/>
          <p:nvPr/>
        </p:nvSpPr>
        <p:spPr>
          <a:xfrm>
            <a:off x="2556000" y="307800"/>
            <a:ext cx="6408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ыделение и Выделение произвольной области – выделяют весь рисунок или его фрагмент, для последующих операций.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астик/Цветной ластик – стирает либо все подряд , либо только выбранный цве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ливка – закрашивает выбранным цветом замкнутый участок рисунк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ыбор цветов – позволяет уточнить тот или иной цвет в рисунк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асштаб – позволяет увеличить рисунок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5">
            <a:hlinkClick r:id="" action="ppaction://hlinkshowjump?jump=nextslide"/>
          </p:cNvPr>
          <p:cNvSpPr/>
          <p:nvPr/>
        </p:nvSpPr>
        <p:spPr>
          <a:xfrm>
            <a:off x="8317080" y="609300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7">
            <a:hlinkClick r:id="" action="ppaction://hlinkshowjump?jump=previousslide"/>
          </p:cNvPr>
          <p:cNvSpPr/>
          <p:nvPr/>
        </p:nvSpPr>
        <p:spPr>
          <a:xfrm>
            <a:off x="7164360" y="6093000"/>
            <a:ext cx="503280" cy="50472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62">
                <a:moveTo>
                  <a:pt x="0" y="0"/>
                </a:moveTo>
                <a:lnTo>
                  <a:pt x="21600" y="0"/>
                </a:lnTo>
                <a:lnTo>
                  <a:pt x="21600" y="21662"/>
                </a:lnTo>
                <a:lnTo>
                  <a:pt x="0" y="21662"/>
                </a:lnTo>
                <a:close/>
              </a:path>
              <a:path fill="lightenLess" w="21600" h="2166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62">
                <a:moveTo>
                  <a:pt x="21600" y="0"/>
                </a:moveTo>
                <a:lnTo>
                  <a:pt x="21600" y="21662"/>
                </a:lnTo>
                <a:lnTo>
                  <a:pt x="20200" y="20262"/>
                </a:lnTo>
                <a:lnTo>
                  <a:pt x="20200" y="1400"/>
                </a:lnTo>
                <a:close/>
              </a:path>
              <a:path fill="darkenLess" w="21600" h="21662">
                <a:moveTo>
                  <a:pt x="21600" y="21662"/>
                </a:moveTo>
                <a:lnTo>
                  <a:pt x="0" y="21662"/>
                </a:lnTo>
                <a:lnTo>
                  <a:pt x="1400" y="20262"/>
                </a:lnTo>
                <a:lnTo>
                  <a:pt x="20200" y="20262"/>
                </a:lnTo>
                <a:close/>
              </a:path>
              <a:path fill="lighten" w="21600" h="21662">
                <a:moveTo>
                  <a:pt x="0" y="21662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62"/>
                </a:lnTo>
                <a:close/>
              </a:path>
              <a:path fill="darken" w="21600" h="21662">
                <a:moveTo>
                  <a:pt x="3794" y="10831"/>
                </a:moveTo>
                <a:lnTo>
                  <a:pt x="17806" y="3824"/>
                </a:lnTo>
                <a:lnTo>
                  <a:pt x="17806" y="17837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9" descr="Безымянный1"/>
          <p:cNvPicPr/>
          <p:nvPr/>
        </p:nvPicPr>
        <p:blipFill>
          <a:blip r:embed="rId1"/>
          <a:srcRect l="0" t="0" r="7614" b="89536"/>
          <a:stretch/>
        </p:blipFill>
        <p:spPr>
          <a:xfrm>
            <a:off x="576360" y="692280"/>
            <a:ext cx="1331640" cy="5760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0" descr="Безымянный1"/>
          <p:cNvPicPr/>
          <p:nvPr/>
        </p:nvPicPr>
        <p:blipFill>
          <a:blip r:embed="rId2"/>
          <a:srcRect l="0" t="10474" r="50510" b="81682"/>
          <a:stretch/>
        </p:blipFill>
        <p:spPr>
          <a:xfrm>
            <a:off x="684360" y="2133720"/>
            <a:ext cx="1155600" cy="4968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1" descr="Безымянный1"/>
          <p:cNvPicPr/>
          <p:nvPr/>
        </p:nvPicPr>
        <p:blipFill>
          <a:blip r:embed="rId3"/>
          <a:srcRect l="42400" t="7853" r="7614" b="81682"/>
          <a:stretch/>
        </p:blipFill>
        <p:spPr>
          <a:xfrm>
            <a:off x="887400" y="3259080"/>
            <a:ext cx="1020600" cy="5796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2" descr="Безымянный1"/>
          <p:cNvPicPr/>
          <p:nvPr/>
        </p:nvPicPr>
        <p:blipFill>
          <a:blip r:embed="rId4"/>
          <a:srcRect l="0" t="15717" r="50262" b="71208"/>
          <a:stretch/>
        </p:blipFill>
        <p:spPr>
          <a:xfrm>
            <a:off x="755640" y="3932280"/>
            <a:ext cx="1152360" cy="7207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3" descr="Безымянный1"/>
          <p:cNvPicPr/>
          <p:nvPr/>
        </p:nvPicPr>
        <p:blipFill>
          <a:blip r:embed="rId5"/>
          <a:srcRect l="42400" t="18328" r="7614" b="73819"/>
          <a:stretch/>
        </p:blipFill>
        <p:spPr>
          <a:xfrm>
            <a:off x="755640" y="4724280"/>
            <a:ext cx="1165320" cy="497160"/>
          </a:xfrm>
          <a:prstGeom prst="rect">
            <a:avLst/>
          </a:prstGeom>
          <a:ln w="0">
            <a:noFill/>
          </a:ln>
        </p:spPr>
      </p:pic>
      <p:sp>
        <p:nvSpPr>
          <p:cNvPr id="159" name="AutoShape 21">
            <a:hlinkClick r:id="" action="ppaction://hlinkshowjump?jump=firstslide"/>
          </p:cNvPr>
          <p:cNvSpPr/>
          <p:nvPr/>
        </p:nvSpPr>
        <p:spPr>
          <a:xfrm>
            <a:off x="7738920" y="6093000"/>
            <a:ext cx="505080" cy="50472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5" h="21600">
                <a:moveTo>
                  <a:pt x="10808" y="3837"/>
                </a:moveTo>
                <a:lnTo>
                  <a:pt x="13384" y="6448"/>
                </a:lnTo>
                <a:lnTo>
                  <a:pt x="13384" y="4707"/>
                </a:lnTo>
                <a:lnTo>
                  <a:pt x="15160" y="4707"/>
                </a:lnTo>
                <a:lnTo>
                  <a:pt x="15160" y="8224"/>
                </a:lnTo>
                <a:lnTo>
                  <a:pt x="17771" y="10800"/>
                </a:lnTo>
                <a:lnTo>
                  <a:pt x="16117" y="10800"/>
                </a:lnTo>
                <a:lnTo>
                  <a:pt x="16117" y="17989"/>
                </a:lnTo>
                <a:lnTo>
                  <a:pt x="5498" y="17989"/>
                </a:lnTo>
                <a:lnTo>
                  <a:pt x="5498" y="10800"/>
                </a:lnTo>
                <a:lnTo>
                  <a:pt x="3845" y="10800"/>
                </a:lnTo>
                <a:close/>
              </a:path>
              <a:path fill="darkenLess" w="21615" h="21600">
                <a:moveTo>
                  <a:pt x="13384" y="6448"/>
                </a:moveTo>
                <a:lnTo>
                  <a:pt x="13384" y="4707"/>
                </a:lnTo>
                <a:lnTo>
                  <a:pt x="15160" y="4707"/>
                </a:lnTo>
                <a:lnTo>
                  <a:pt x="15160" y="8224"/>
                </a:lnTo>
                <a:close/>
              </a:path>
              <a:path fill="darkenLess" w="21615" h="21600">
                <a:moveTo>
                  <a:pt x="9885" y="14299"/>
                </a:moveTo>
                <a:lnTo>
                  <a:pt x="11730" y="14299"/>
                </a:lnTo>
                <a:lnTo>
                  <a:pt x="11730" y="17989"/>
                </a:lnTo>
                <a:lnTo>
                  <a:pt x="16117" y="17989"/>
                </a:lnTo>
                <a:lnTo>
                  <a:pt x="16117" y="10800"/>
                </a:lnTo>
                <a:lnTo>
                  <a:pt x="5498" y="10800"/>
                </a:lnTo>
                <a:lnTo>
                  <a:pt x="5498" y="17989"/>
                </a:lnTo>
                <a:lnTo>
                  <a:pt x="9885" y="17989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7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5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500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500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" dur="500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2556000" y="188640"/>
            <a:ext cx="6588000" cy="59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арандаш – имитирует карандаш любого цвет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исть – имитирует кисть любого цвета и форм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аспылитель – имитирует распылитель любого цвет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дпись – позволяет вводить текст, который затем становится рисунко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Линия, Кривая линия – позволяет рисовать прямые     линии (Линия), и кривые (Кривая линия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ямоугольник, Многоугольник, Эллипс, скругленный прямоугольник – эти инструменты позволяют рисовать соответствующие фигуры любого цвета и разме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14" descr="Безымянный1"/>
          <p:cNvPicPr/>
          <p:nvPr/>
        </p:nvPicPr>
        <p:blipFill>
          <a:blip r:embed="rId1"/>
          <a:srcRect l="7117" t="26191" r="57628" b="65966"/>
          <a:stretch/>
        </p:blipFill>
        <p:spPr>
          <a:xfrm>
            <a:off x="755640" y="260280"/>
            <a:ext cx="1008000" cy="52236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5" descr="Безымянный1"/>
          <p:cNvPicPr/>
          <p:nvPr/>
        </p:nvPicPr>
        <p:blipFill>
          <a:blip r:embed="rId2"/>
          <a:srcRect l="42648" t="26191" r="7862" b="65966"/>
          <a:stretch/>
        </p:blipFill>
        <p:spPr>
          <a:xfrm>
            <a:off x="755640" y="1052640"/>
            <a:ext cx="1008000" cy="49824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7" descr="Безымянный1"/>
          <p:cNvPicPr/>
          <p:nvPr/>
        </p:nvPicPr>
        <p:blipFill>
          <a:blip r:embed="rId3"/>
          <a:srcRect l="7117" t="34044" r="57628" b="58112"/>
          <a:stretch/>
        </p:blipFill>
        <p:spPr>
          <a:xfrm>
            <a:off x="763560" y="1698480"/>
            <a:ext cx="1000080" cy="60336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8" descr="Безымянный1"/>
          <p:cNvPicPr/>
          <p:nvPr/>
        </p:nvPicPr>
        <p:blipFill>
          <a:blip r:embed="rId4"/>
          <a:srcRect l="42648" t="34044" r="7862" b="58112"/>
          <a:stretch/>
        </p:blipFill>
        <p:spPr>
          <a:xfrm>
            <a:off x="826920" y="2492280"/>
            <a:ext cx="1079640" cy="4651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9" descr="Безымянный1"/>
          <p:cNvPicPr/>
          <p:nvPr/>
        </p:nvPicPr>
        <p:blipFill>
          <a:blip r:embed="rId5"/>
          <a:srcRect l="7117" t="41898" r="7862" b="50249"/>
          <a:stretch/>
        </p:blipFill>
        <p:spPr>
          <a:xfrm>
            <a:off x="826920" y="3213000"/>
            <a:ext cx="1081080" cy="5032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20" descr="Безымянный1"/>
          <p:cNvPicPr/>
          <p:nvPr/>
        </p:nvPicPr>
        <p:blipFill>
          <a:blip r:embed="rId6"/>
          <a:srcRect l="0" t="49761" r="7614" b="34542"/>
          <a:stretch/>
        </p:blipFill>
        <p:spPr>
          <a:xfrm>
            <a:off x="611280" y="4292640"/>
            <a:ext cx="148572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4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4" dur="5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4" dur="5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4" dur="500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4" dur="500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9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4" dur="500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-270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аботы учащихся прошлых лет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0" y="907920"/>
            <a:ext cx="9144000" cy="631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96560" cy="722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-649440" y="46080"/>
            <a:ext cx="9901440" cy="63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-1214280" y="-709560"/>
            <a:ext cx="11572560" cy="82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4"/>
          <p:cNvSpPr/>
          <p:nvPr/>
        </p:nvSpPr>
        <p:spPr>
          <a:xfrm>
            <a:off x="755640" y="476280"/>
            <a:ext cx="47530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5"/>
          <p:cNvSpPr/>
          <p:nvPr/>
        </p:nvSpPr>
        <p:spPr>
          <a:xfrm>
            <a:off x="900000" y="981000"/>
            <a:ext cx="1871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6"/>
          <p:cNvSpPr/>
          <p:nvPr/>
        </p:nvSpPr>
        <p:spPr>
          <a:xfrm>
            <a:off x="1006560" y="1773360"/>
            <a:ext cx="813744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тобы воспользоваться инструментом, необходимо щелкнуть мышкой по значку с инструментом, затем перевести курсор мышки на поле для рисования, нажать и удерживать левую кнопку мышки. Пока кнопка нажата – рисует, отпущена – не рису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7">
            <a:hlinkClick r:id="" action="ppaction://hlinkshowjump?jump=previousslide"/>
          </p:cNvPr>
          <p:cNvSpPr/>
          <p:nvPr/>
        </p:nvSpPr>
        <p:spPr>
          <a:xfrm>
            <a:off x="7020000" y="6093000"/>
            <a:ext cx="503280" cy="50472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62">
                <a:moveTo>
                  <a:pt x="0" y="0"/>
                </a:moveTo>
                <a:lnTo>
                  <a:pt x="21600" y="0"/>
                </a:lnTo>
                <a:lnTo>
                  <a:pt x="21600" y="21662"/>
                </a:lnTo>
                <a:lnTo>
                  <a:pt x="0" y="21662"/>
                </a:lnTo>
                <a:close/>
              </a:path>
              <a:path fill="lightenLess" w="21600" h="2166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62">
                <a:moveTo>
                  <a:pt x="21600" y="0"/>
                </a:moveTo>
                <a:lnTo>
                  <a:pt x="21600" y="21662"/>
                </a:lnTo>
                <a:lnTo>
                  <a:pt x="20200" y="20262"/>
                </a:lnTo>
                <a:lnTo>
                  <a:pt x="20200" y="1400"/>
                </a:lnTo>
                <a:close/>
              </a:path>
              <a:path fill="darkenLess" w="21600" h="21662">
                <a:moveTo>
                  <a:pt x="21600" y="21662"/>
                </a:moveTo>
                <a:lnTo>
                  <a:pt x="0" y="21662"/>
                </a:lnTo>
                <a:lnTo>
                  <a:pt x="1400" y="20262"/>
                </a:lnTo>
                <a:lnTo>
                  <a:pt x="20200" y="20262"/>
                </a:lnTo>
                <a:close/>
              </a:path>
              <a:path fill="lighten" w="21600" h="21662">
                <a:moveTo>
                  <a:pt x="0" y="21662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62"/>
                </a:lnTo>
                <a:close/>
              </a:path>
              <a:path fill="darken" w="21600" h="21662">
                <a:moveTo>
                  <a:pt x="3794" y="10831"/>
                </a:moveTo>
                <a:lnTo>
                  <a:pt x="17806" y="3824"/>
                </a:lnTo>
                <a:lnTo>
                  <a:pt x="17806" y="17837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9">
            <a:hlinkClick r:id="" action="ppaction://hlinkshowjump?jump=nextslide"/>
          </p:cNvPr>
          <p:cNvSpPr/>
          <p:nvPr/>
        </p:nvSpPr>
        <p:spPr>
          <a:xfrm>
            <a:off x="8172360" y="6093000"/>
            <a:ext cx="505080" cy="50472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5" h="21600">
                <a:moveTo>
                  <a:pt x="3801" y="3794"/>
                </a:moveTo>
                <a:lnTo>
                  <a:pt x="17814" y="10800"/>
                </a:lnTo>
                <a:lnTo>
                  <a:pt x="3801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1">
            <a:hlinkClick r:id="" action="ppaction://hlinkshowjump?jump=firstslide"/>
          </p:cNvPr>
          <p:cNvSpPr/>
          <p:nvPr/>
        </p:nvSpPr>
        <p:spPr>
          <a:xfrm>
            <a:off x="7596360" y="609300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4"/>
          <p:cNvSpPr/>
          <p:nvPr/>
        </p:nvSpPr>
        <p:spPr>
          <a:xfrm>
            <a:off x="684360" y="2060640"/>
            <a:ext cx="845964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Урок-это зеркало общей и педагогическ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ультуры учителя, мерило е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интеллектуального богатств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оказатель его кругозора и эрудиц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.Сухомлинск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6">
            <a:hlinkClick r:id="" action="ppaction://hlinkshowjump?jump=previousslide"/>
          </p:cNvPr>
          <p:cNvSpPr/>
          <p:nvPr/>
        </p:nvSpPr>
        <p:spPr>
          <a:xfrm>
            <a:off x="7020000" y="6093000"/>
            <a:ext cx="503280" cy="50472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62">
                <a:moveTo>
                  <a:pt x="0" y="0"/>
                </a:moveTo>
                <a:lnTo>
                  <a:pt x="21600" y="0"/>
                </a:lnTo>
                <a:lnTo>
                  <a:pt x="21600" y="21662"/>
                </a:lnTo>
                <a:lnTo>
                  <a:pt x="0" y="21662"/>
                </a:lnTo>
                <a:close/>
              </a:path>
              <a:path fill="lightenLess" w="21600" h="2166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62">
                <a:moveTo>
                  <a:pt x="21600" y="0"/>
                </a:moveTo>
                <a:lnTo>
                  <a:pt x="21600" y="21662"/>
                </a:lnTo>
                <a:lnTo>
                  <a:pt x="20200" y="20262"/>
                </a:lnTo>
                <a:lnTo>
                  <a:pt x="20200" y="1400"/>
                </a:lnTo>
                <a:close/>
              </a:path>
              <a:path fill="darkenLess" w="21600" h="21662">
                <a:moveTo>
                  <a:pt x="21600" y="21662"/>
                </a:moveTo>
                <a:lnTo>
                  <a:pt x="0" y="21662"/>
                </a:lnTo>
                <a:lnTo>
                  <a:pt x="1400" y="20262"/>
                </a:lnTo>
                <a:lnTo>
                  <a:pt x="20200" y="20262"/>
                </a:lnTo>
                <a:close/>
              </a:path>
              <a:path fill="lighten" w="21600" h="21662">
                <a:moveTo>
                  <a:pt x="0" y="21662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62"/>
                </a:lnTo>
                <a:close/>
              </a:path>
              <a:path fill="darken" w="21600" h="21662">
                <a:moveTo>
                  <a:pt x="3794" y="10831"/>
                </a:moveTo>
                <a:lnTo>
                  <a:pt x="17806" y="3824"/>
                </a:lnTo>
                <a:lnTo>
                  <a:pt x="17806" y="17837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8">
            <a:hlinkClick r:id="" action="ppaction://hlinkshowjump?jump=nextslide"/>
          </p:cNvPr>
          <p:cNvSpPr/>
          <p:nvPr/>
        </p:nvSpPr>
        <p:spPr>
          <a:xfrm>
            <a:off x="8172360" y="6093000"/>
            <a:ext cx="505080" cy="50472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5" h="21600">
                <a:moveTo>
                  <a:pt x="3801" y="3794"/>
                </a:moveTo>
                <a:lnTo>
                  <a:pt x="17814" y="10800"/>
                </a:lnTo>
                <a:lnTo>
                  <a:pt x="3801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10">
            <a:hlinkClick r:id="" action="ppaction://hlinkshowjump?jump=firstslide"/>
          </p:cNvPr>
          <p:cNvSpPr/>
          <p:nvPr/>
        </p:nvSpPr>
        <p:spPr>
          <a:xfrm>
            <a:off x="7596360" y="609300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61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огда работа над изображением закончена, нужно сохранить его. Для этого нужно в меню «Файл», выбрать команду «Сохранить», затем в диалоговом окне ввести имя файла и нажать на кнопку «Сохранить». Таким образом вы сохраните файл и сможете воспользоваться им в следующий раз.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Главное дать правильное имя своему файлу – ведь если вы назовете его, допустим «Рисунок №1», то через какое-то время вы можете не вспомнить, что там нарисовано и вам придется открывать его. А если у вас несколько десятков таких рисунков 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10920" y="404280"/>
            <a:ext cx="8172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V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. Закрепление материала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актическая работа с программой «Paint».</a:t>
            </a:r>
            <a:r>
              <a:rPr b="1" i="1" lang="ru-RU" sz="2400" spc="-1" strike="noStrike">
                <a:solidFill>
                  <a:srgbClr val="330033"/>
                </a:solidFill>
                <a:latin typeface="Times New Roman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11280" y="1125360"/>
            <a:ext cx="807552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грузить приложение Paint. Для этого нужно кликнуть мышкой по кнопке «Пуск» — «Программы» — «Стандартные» — « Paint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рисовать что-нибудь на свое усмотрение или воспользоваться предложенными образцами и создать их копии, добавить в рисунки свои фрагменты с использованием инструментов Заливка, Надпись и др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хранить рисунок в папке Мои документы в вложенной папке своего класса, дав в качестве имени свою фамилию и класс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крыть Pai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5">
            <a:hlinkClick r:id="" action="ppaction://hlinkshowjump?jump=previousslide"/>
          </p:cNvPr>
          <p:cNvSpPr/>
          <p:nvPr/>
        </p:nvSpPr>
        <p:spPr>
          <a:xfrm>
            <a:off x="7020000" y="6093000"/>
            <a:ext cx="503280" cy="50472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62">
                <a:moveTo>
                  <a:pt x="0" y="0"/>
                </a:moveTo>
                <a:lnTo>
                  <a:pt x="21600" y="0"/>
                </a:lnTo>
                <a:lnTo>
                  <a:pt x="21600" y="21662"/>
                </a:lnTo>
                <a:lnTo>
                  <a:pt x="0" y="21662"/>
                </a:lnTo>
                <a:close/>
              </a:path>
              <a:path fill="lightenLess" w="21600" h="2166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62">
                <a:moveTo>
                  <a:pt x="21600" y="0"/>
                </a:moveTo>
                <a:lnTo>
                  <a:pt x="21600" y="21662"/>
                </a:lnTo>
                <a:lnTo>
                  <a:pt x="20200" y="20262"/>
                </a:lnTo>
                <a:lnTo>
                  <a:pt x="20200" y="1400"/>
                </a:lnTo>
                <a:close/>
              </a:path>
              <a:path fill="darkenLess" w="21600" h="21662">
                <a:moveTo>
                  <a:pt x="21600" y="21662"/>
                </a:moveTo>
                <a:lnTo>
                  <a:pt x="0" y="21662"/>
                </a:lnTo>
                <a:lnTo>
                  <a:pt x="1400" y="20262"/>
                </a:lnTo>
                <a:lnTo>
                  <a:pt x="20200" y="20262"/>
                </a:lnTo>
                <a:close/>
              </a:path>
              <a:path fill="lighten" w="21600" h="21662">
                <a:moveTo>
                  <a:pt x="0" y="21662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62"/>
                </a:lnTo>
                <a:close/>
              </a:path>
              <a:path fill="darken" w="21600" h="21662">
                <a:moveTo>
                  <a:pt x="3794" y="10831"/>
                </a:moveTo>
                <a:lnTo>
                  <a:pt x="17806" y="3824"/>
                </a:lnTo>
                <a:lnTo>
                  <a:pt x="17806" y="17837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utoShape 6">
            <a:hlinkClick r:id="" action="ppaction://hlinkshowjump?jump=nextslide"/>
          </p:cNvPr>
          <p:cNvSpPr/>
          <p:nvPr/>
        </p:nvSpPr>
        <p:spPr>
          <a:xfrm>
            <a:off x="8172360" y="6093000"/>
            <a:ext cx="505080" cy="50472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5" h="21600">
                <a:moveTo>
                  <a:pt x="3801" y="3794"/>
                </a:moveTo>
                <a:lnTo>
                  <a:pt x="17814" y="10800"/>
                </a:lnTo>
                <a:lnTo>
                  <a:pt x="3801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7">
            <a:hlinkClick r:id="" action="ppaction://hlinkshowjump?jump=firstslide"/>
          </p:cNvPr>
          <p:cNvSpPr/>
          <p:nvPr/>
        </p:nvSpPr>
        <p:spPr>
          <a:xfrm>
            <a:off x="7596360" y="609300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Образцы рисунков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1979640" y="1268280"/>
            <a:ext cx="5654520" cy="513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128520"/>
            <a:ext cx="9144000" cy="660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0" y="100080"/>
            <a:ext cx="9144000" cy="665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 Box 4"/>
          <p:cNvSpPr/>
          <p:nvPr/>
        </p:nvSpPr>
        <p:spPr>
          <a:xfrm>
            <a:off x="468360" y="189000"/>
            <a:ext cx="8424720" cy="547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VI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. Диагностика усво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) Для чего нам нужен Paint 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) Назовите основные инструменты Paint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II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омашнее задание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.7.2.1 (Угринович Н. Д.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здать  рисунок для дальнейшей работы над ним в среде MS Pai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ешить упражнения: а) Выполнить переводы 69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→А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→А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→А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Arial"/>
              </a:rPr>
              <a:t>16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б)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ешить уравнение 64</a:t>
            </a:r>
            <a:r>
              <a:rPr b="1" lang="ru-RU" sz="1800" spc="-1" strike="noStrike" baseline="30000">
                <a:solidFill>
                  <a:srgbClr val="000000"/>
                </a:solidFill>
                <a:latin typeface="Arial"/>
              </a:rPr>
              <a:t>х-2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бит = 128 мбайт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 Вопросы учеников.</a:t>
            </a:r>
            <a:br>
              <a:rPr sz="2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тветы на вопросы учащихся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X.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Подведение итогов, выставление оцено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AutoShape 7">
            <a:hlinkClick r:id="" action="ppaction://hlinkshowjump?jump=previousslide"/>
          </p:cNvPr>
          <p:cNvSpPr/>
          <p:nvPr/>
        </p:nvSpPr>
        <p:spPr>
          <a:xfrm>
            <a:off x="7020000" y="6093000"/>
            <a:ext cx="503280" cy="50472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62">
                <a:moveTo>
                  <a:pt x="0" y="0"/>
                </a:moveTo>
                <a:lnTo>
                  <a:pt x="21600" y="0"/>
                </a:lnTo>
                <a:lnTo>
                  <a:pt x="21600" y="21662"/>
                </a:lnTo>
                <a:lnTo>
                  <a:pt x="0" y="21662"/>
                </a:lnTo>
                <a:close/>
              </a:path>
              <a:path fill="lightenLess" w="21600" h="2166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62">
                <a:moveTo>
                  <a:pt x="21600" y="0"/>
                </a:moveTo>
                <a:lnTo>
                  <a:pt x="21600" y="21662"/>
                </a:lnTo>
                <a:lnTo>
                  <a:pt x="20200" y="20262"/>
                </a:lnTo>
                <a:lnTo>
                  <a:pt x="20200" y="1400"/>
                </a:lnTo>
                <a:close/>
              </a:path>
              <a:path fill="darkenLess" w="21600" h="21662">
                <a:moveTo>
                  <a:pt x="21600" y="21662"/>
                </a:moveTo>
                <a:lnTo>
                  <a:pt x="0" y="21662"/>
                </a:lnTo>
                <a:lnTo>
                  <a:pt x="1400" y="20262"/>
                </a:lnTo>
                <a:lnTo>
                  <a:pt x="20200" y="20262"/>
                </a:lnTo>
                <a:close/>
              </a:path>
              <a:path fill="lighten" w="21600" h="21662">
                <a:moveTo>
                  <a:pt x="0" y="21662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62"/>
                </a:lnTo>
                <a:close/>
              </a:path>
              <a:path fill="darken" w="21600" h="21662">
                <a:moveTo>
                  <a:pt x="3794" y="10831"/>
                </a:moveTo>
                <a:lnTo>
                  <a:pt x="17806" y="3824"/>
                </a:lnTo>
                <a:lnTo>
                  <a:pt x="17806" y="17837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utoShape 9">
            <a:hlinkClick r:id="" action="ppaction://hlinkshowjump?jump=nextslide"/>
          </p:cNvPr>
          <p:cNvSpPr/>
          <p:nvPr/>
        </p:nvSpPr>
        <p:spPr>
          <a:xfrm>
            <a:off x="8172360" y="6093000"/>
            <a:ext cx="505080" cy="50472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5" h="21600">
                <a:moveTo>
                  <a:pt x="3801" y="3794"/>
                </a:moveTo>
                <a:lnTo>
                  <a:pt x="17814" y="10800"/>
                </a:lnTo>
                <a:lnTo>
                  <a:pt x="3801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10">
            <a:hlinkClick r:id="" action="ppaction://hlinkshowjump?jump=firstslide"/>
          </p:cNvPr>
          <p:cNvSpPr/>
          <p:nvPr/>
        </p:nvSpPr>
        <p:spPr>
          <a:xfrm>
            <a:off x="7596360" y="609300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nodeType="clickEffect" fill="hold">
                      <p:stCondLst>
                        <p:cond delay="0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90400" y="18864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0000"/>
                </a:solidFill>
                <a:latin typeface="Times New Roman"/>
              </a:rPr>
              <a:t>Тема урока: Основные приемы  работы в Paint .</a:t>
            </a: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06" name="Picture 5" descr="animvasa.gif (244584 bytes)"/>
          <p:cNvPicPr/>
          <p:nvPr/>
        </p:nvPicPr>
        <p:blipFill>
          <a:blip r:embed="rId1"/>
          <a:stretch/>
        </p:blipFill>
        <p:spPr>
          <a:xfrm>
            <a:off x="3059280" y="2421000"/>
            <a:ext cx="3671640" cy="2457360"/>
          </a:xfrm>
          <a:prstGeom prst="rect">
            <a:avLst/>
          </a:prstGeom>
          <a:ln w="0">
            <a:noFill/>
          </a:ln>
        </p:spPr>
      </p:pic>
      <p:sp>
        <p:nvSpPr>
          <p:cNvPr id="107" name="AutoShape 6">
            <a:hlinkClick r:id="" action="ppaction://hlinkshowjump?jump=previousslide"/>
          </p:cNvPr>
          <p:cNvSpPr/>
          <p:nvPr/>
        </p:nvSpPr>
        <p:spPr>
          <a:xfrm>
            <a:off x="7020000" y="6093000"/>
            <a:ext cx="503280" cy="50472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62">
                <a:moveTo>
                  <a:pt x="0" y="0"/>
                </a:moveTo>
                <a:lnTo>
                  <a:pt x="21600" y="0"/>
                </a:lnTo>
                <a:lnTo>
                  <a:pt x="21600" y="21662"/>
                </a:lnTo>
                <a:lnTo>
                  <a:pt x="0" y="21662"/>
                </a:lnTo>
                <a:close/>
              </a:path>
              <a:path fill="lightenLess" w="21600" h="2166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62">
                <a:moveTo>
                  <a:pt x="21600" y="0"/>
                </a:moveTo>
                <a:lnTo>
                  <a:pt x="21600" y="21662"/>
                </a:lnTo>
                <a:lnTo>
                  <a:pt x="20200" y="20262"/>
                </a:lnTo>
                <a:lnTo>
                  <a:pt x="20200" y="1400"/>
                </a:lnTo>
                <a:close/>
              </a:path>
              <a:path fill="darkenLess" w="21600" h="21662">
                <a:moveTo>
                  <a:pt x="21600" y="21662"/>
                </a:moveTo>
                <a:lnTo>
                  <a:pt x="0" y="21662"/>
                </a:lnTo>
                <a:lnTo>
                  <a:pt x="1400" y="20262"/>
                </a:lnTo>
                <a:lnTo>
                  <a:pt x="20200" y="20262"/>
                </a:lnTo>
                <a:close/>
              </a:path>
              <a:path fill="lighten" w="21600" h="21662">
                <a:moveTo>
                  <a:pt x="0" y="21662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62"/>
                </a:lnTo>
                <a:close/>
              </a:path>
              <a:path fill="darken" w="21600" h="21662">
                <a:moveTo>
                  <a:pt x="3794" y="10831"/>
                </a:moveTo>
                <a:lnTo>
                  <a:pt x="17806" y="3824"/>
                </a:lnTo>
                <a:lnTo>
                  <a:pt x="17806" y="17837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8">
            <a:hlinkClick r:id="" action="ppaction://hlinkshowjump?jump=nextslide"/>
          </p:cNvPr>
          <p:cNvSpPr/>
          <p:nvPr/>
        </p:nvSpPr>
        <p:spPr>
          <a:xfrm>
            <a:off x="8172360" y="6093000"/>
            <a:ext cx="505080" cy="50472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5" h="21600">
                <a:moveTo>
                  <a:pt x="3801" y="3794"/>
                </a:moveTo>
                <a:lnTo>
                  <a:pt x="17814" y="10800"/>
                </a:lnTo>
                <a:lnTo>
                  <a:pt x="3801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9">
            <a:hlinkClick r:id="" action="ppaction://hlinkshowjump?jump=firstslide"/>
          </p:cNvPr>
          <p:cNvSpPr/>
          <p:nvPr/>
        </p:nvSpPr>
        <p:spPr>
          <a:xfrm>
            <a:off x="7596360" y="609300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50560" y="549360"/>
            <a:ext cx="8893080" cy="597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Цели урока: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1)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вторение темы «Системы счисления» (материал 10 класса, в плане подготовки к ЕГЭ);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общение понятий по теме «Графические редакторы»;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)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накомство с графическим      редактором Paint ;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4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ормирование навыков работы с графическим редактором Paint;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5)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действовать воспитанию интереса к предмету;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6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развитие творческих способностей и познавательного интереса у учащихся;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7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спитание целеустремленности, умения работать в группе. </a:t>
            </a:r>
            <a:br>
              <a:rPr sz="2800"/>
            </a:b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1" name="AutoShape 5">
            <a:hlinkClick r:id="" action="ppaction://hlinkshowjump?jump=previousslide"/>
          </p:cNvPr>
          <p:cNvSpPr/>
          <p:nvPr/>
        </p:nvSpPr>
        <p:spPr>
          <a:xfrm>
            <a:off x="7020000" y="6093000"/>
            <a:ext cx="503280" cy="50472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62">
                <a:moveTo>
                  <a:pt x="0" y="0"/>
                </a:moveTo>
                <a:lnTo>
                  <a:pt x="21600" y="0"/>
                </a:lnTo>
                <a:lnTo>
                  <a:pt x="21600" y="21662"/>
                </a:lnTo>
                <a:lnTo>
                  <a:pt x="0" y="21662"/>
                </a:lnTo>
                <a:close/>
              </a:path>
              <a:path fill="lightenLess" w="21600" h="2166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62">
                <a:moveTo>
                  <a:pt x="21600" y="0"/>
                </a:moveTo>
                <a:lnTo>
                  <a:pt x="21600" y="21662"/>
                </a:lnTo>
                <a:lnTo>
                  <a:pt x="20200" y="20262"/>
                </a:lnTo>
                <a:lnTo>
                  <a:pt x="20200" y="1400"/>
                </a:lnTo>
                <a:close/>
              </a:path>
              <a:path fill="darkenLess" w="21600" h="21662">
                <a:moveTo>
                  <a:pt x="21600" y="21662"/>
                </a:moveTo>
                <a:lnTo>
                  <a:pt x="0" y="21662"/>
                </a:lnTo>
                <a:lnTo>
                  <a:pt x="1400" y="20262"/>
                </a:lnTo>
                <a:lnTo>
                  <a:pt x="20200" y="20262"/>
                </a:lnTo>
                <a:close/>
              </a:path>
              <a:path fill="lighten" w="21600" h="21662">
                <a:moveTo>
                  <a:pt x="0" y="21662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62"/>
                </a:lnTo>
                <a:close/>
              </a:path>
              <a:path fill="darken" w="21600" h="21662">
                <a:moveTo>
                  <a:pt x="3794" y="10831"/>
                </a:moveTo>
                <a:lnTo>
                  <a:pt x="17806" y="3824"/>
                </a:lnTo>
                <a:lnTo>
                  <a:pt x="17806" y="17837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6">
            <a:hlinkClick r:id="" action="ppaction://hlinkshowjump?jump=nextslide"/>
          </p:cNvPr>
          <p:cNvSpPr/>
          <p:nvPr/>
        </p:nvSpPr>
        <p:spPr>
          <a:xfrm>
            <a:off x="8172360" y="6093000"/>
            <a:ext cx="505080" cy="50472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5" h="21600">
                <a:moveTo>
                  <a:pt x="3801" y="3794"/>
                </a:moveTo>
                <a:lnTo>
                  <a:pt x="17814" y="10800"/>
                </a:lnTo>
                <a:lnTo>
                  <a:pt x="3801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7">
            <a:hlinkClick r:id="" action="ppaction://hlinkshowjump?jump=firstslide"/>
          </p:cNvPr>
          <p:cNvSpPr/>
          <p:nvPr/>
        </p:nvSpPr>
        <p:spPr>
          <a:xfrm>
            <a:off x="7596360" y="609300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79200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 u="sng">
                <a:solidFill>
                  <a:srgbClr val="000000"/>
                </a:solidFill>
                <a:uFillTx/>
                <a:latin typeface="Arial"/>
              </a:rPr>
              <a:t>Ход урока:</a:t>
            </a:r>
            <a:r>
              <a:rPr b="1" i="1" lang="ru-RU" sz="4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200"/>
            </a:br>
            <a:br>
              <a:rPr sz="4200"/>
            </a:br>
            <a:r>
              <a:rPr b="0" lang="en-US" sz="2800" spc="-1" strike="noStrike">
                <a:solidFill>
                  <a:srgbClr val="330033"/>
                </a:solidFill>
                <a:latin typeface="Arial"/>
              </a:rPr>
              <a:t>I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рганизационный</a:t>
            </a:r>
            <a:r>
              <a:rPr b="0" lang="ru-RU" sz="28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мент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826920" y="2997360"/>
            <a:ext cx="7777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иветствие, проверка присутствующих. Объяснение хода урок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000" y="277560"/>
            <a:ext cx="821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.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вторение темы «Системы счисления»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стная работа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просы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веты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23640" y="1599840"/>
            <a:ext cx="44002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акие системы счисления бывают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о сколько раз увеличатся числа 12,1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25,37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8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 переносе запятой на один знак вправо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акие цифры используется в 5-й системе счислени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43280" y="1600200"/>
            <a:ext cx="4500720" cy="39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0099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Позиционные и непозиционны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99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В 3 и 8 раз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99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0,1,2,3,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0033"/>
                </a:solidFill>
                <a:latin typeface="Arial"/>
              </a:rPr>
              <a:t>Упражнения на повторение темы </a:t>
            </a:r>
            <a:br>
              <a:rPr sz="2800"/>
            </a:br>
            <a:r>
              <a:rPr b="0" lang="ru-RU" sz="2800" spc="-1" strike="noStrike">
                <a:solidFill>
                  <a:srgbClr val="330033"/>
                </a:solidFill>
                <a:latin typeface="Arial"/>
              </a:rPr>
              <a:t>«Системы счисления»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ыполнить переводы чисел 83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→А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→А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→А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6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Ответ: 83</a:t>
            </a:r>
            <a:r>
              <a:rPr b="0" lang="en-US" sz="2800" spc="-1" strike="noStrike" baseline="-25000">
                <a:solidFill>
                  <a:srgbClr val="0099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=123</a:t>
            </a:r>
            <a:r>
              <a:rPr b="0" lang="en-US" sz="2800" spc="-1" strike="noStrike" baseline="-25000">
                <a:solidFill>
                  <a:srgbClr val="009900"/>
                </a:solidFill>
                <a:latin typeface="Arial"/>
              </a:rPr>
              <a:t>8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=1010011</a:t>
            </a:r>
            <a:r>
              <a:rPr b="0" lang="en-US" sz="2800" spc="-1" strike="noStrike" baseline="-25000">
                <a:solidFill>
                  <a:srgbClr val="0099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=53</a:t>
            </a:r>
            <a:r>
              <a:rPr b="0" lang="en-US" sz="2800" spc="-1" strike="noStrike" baseline="-25000">
                <a:solidFill>
                  <a:srgbClr val="009900"/>
                </a:solidFill>
                <a:latin typeface="Arial"/>
              </a:rPr>
              <a:t>16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  Решить уравнение Х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1000011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55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6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Ответ: Х=2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500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4"/>
          <p:cNvSpPr/>
          <p:nvPr/>
        </p:nvSpPr>
        <p:spPr>
          <a:xfrm>
            <a:off x="395280" y="0"/>
            <a:ext cx="8353440" cy="143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roman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Фронтальный опрос по предыдущей теме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опросы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тве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7">
            <a:hlinkClick r:id="" action="ppaction://hlinkshowjump?jump=previousslide"/>
          </p:cNvPr>
          <p:cNvSpPr/>
          <p:nvPr/>
        </p:nvSpPr>
        <p:spPr>
          <a:xfrm>
            <a:off x="7020000" y="6093000"/>
            <a:ext cx="503280" cy="50472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62">
                <a:moveTo>
                  <a:pt x="0" y="0"/>
                </a:moveTo>
                <a:lnTo>
                  <a:pt x="21600" y="0"/>
                </a:lnTo>
                <a:lnTo>
                  <a:pt x="21600" y="21662"/>
                </a:lnTo>
                <a:lnTo>
                  <a:pt x="0" y="21662"/>
                </a:lnTo>
                <a:close/>
              </a:path>
              <a:path fill="lightenLess" w="21600" h="2166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62">
                <a:moveTo>
                  <a:pt x="21600" y="0"/>
                </a:moveTo>
                <a:lnTo>
                  <a:pt x="21600" y="21662"/>
                </a:lnTo>
                <a:lnTo>
                  <a:pt x="20200" y="20262"/>
                </a:lnTo>
                <a:lnTo>
                  <a:pt x="20200" y="1400"/>
                </a:lnTo>
                <a:close/>
              </a:path>
              <a:path fill="darkenLess" w="21600" h="21662">
                <a:moveTo>
                  <a:pt x="21600" y="21662"/>
                </a:moveTo>
                <a:lnTo>
                  <a:pt x="0" y="21662"/>
                </a:lnTo>
                <a:lnTo>
                  <a:pt x="1400" y="20262"/>
                </a:lnTo>
                <a:lnTo>
                  <a:pt x="20200" y="20262"/>
                </a:lnTo>
                <a:close/>
              </a:path>
              <a:path fill="lighten" w="21600" h="21662">
                <a:moveTo>
                  <a:pt x="0" y="21662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62"/>
                </a:lnTo>
                <a:close/>
              </a:path>
              <a:path fill="darken" w="21600" h="21662">
                <a:moveTo>
                  <a:pt x="3794" y="10831"/>
                </a:moveTo>
                <a:lnTo>
                  <a:pt x="17806" y="3824"/>
                </a:lnTo>
                <a:lnTo>
                  <a:pt x="17806" y="17837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9">
            <a:hlinkClick r:id="" action="ppaction://hlinkshowjump?jump=nextslide"/>
          </p:cNvPr>
          <p:cNvSpPr/>
          <p:nvPr/>
        </p:nvSpPr>
        <p:spPr>
          <a:xfrm>
            <a:off x="8172360" y="6093000"/>
            <a:ext cx="505080" cy="50472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5" h="21600">
                <a:moveTo>
                  <a:pt x="3801" y="3794"/>
                </a:moveTo>
                <a:lnTo>
                  <a:pt x="17814" y="10800"/>
                </a:lnTo>
                <a:lnTo>
                  <a:pt x="3801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10">
            <a:hlinkClick r:id="" action="ppaction://hlinkshowjump?jump=firstslide"/>
          </p:cNvPr>
          <p:cNvSpPr/>
          <p:nvPr/>
        </p:nvSpPr>
        <p:spPr>
          <a:xfrm>
            <a:off x="7596360" y="609300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539640" y="1599840"/>
            <a:ext cx="418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зовите виды компьютерной графи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ак формируются растровые изображения?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Что такое пикс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Растровая, векторная.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В процессе преобразования графической информации из аналоговой формы в цифрову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Минимальный участок изображ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0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опрос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тветы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 чем недостаток растровых изображений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ак формируются векторные изображени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остоинства векторной графи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393120" indent="-393120">
              <a:lnSpc>
                <a:spcPct val="80000"/>
              </a:lnSpc>
              <a:spcBef>
                <a:spcPts val="601"/>
              </a:spcBef>
              <a:buClr>
                <a:srgbClr val="009900"/>
              </a:buClr>
              <a:buSzPct val="90000"/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Чувствительность к масштабирован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3120" indent="-393120">
              <a:lnSpc>
                <a:spcPct val="80000"/>
              </a:lnSpc>
              <a:spcBef>
                <a:spcPts val="601"/>
              </a:spcBef>
              <a:buClr>
                <a:srgbClr val="009900"/>
              </a:buClr>
              <a:buSzPct val="90000"/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Из графических объектов, которые хранятся в памяти компьютера в виде графических примитивов и описывающих их математических форму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3120" indent="-393120">
              <a:lnSpc>
                <a:spcPct val="80000"/>
              </a:lnSpc>
              <a:spcBef>
                <a:spcPts val="601"/>
              </a:spcBef>
              <a:buClr>
                <a:srgbClr val="009900"/>
              </a:buClr>
              <a:buSzPct val="90000"/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Сравнительно небольшой объем и возможность масштабирования без потери качества изображ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9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9" dur="500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4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5T05:33:30Z</dcterms:created>
  <dc:creator>Ошноков</dc:creator>
  <dc:description/>
  <dc:language>en-US</dc:language>
  <cp:lastModifiedBy>User</cp:lastModifiedBy>
  <dcterms:modified xsi:type="dcterms:W3CDTF">2012-08-27T05:58:09Z</dcterms:modified>
  <cp:revision>58</cp:revision>
  <dc:subject/>
  <dc:title>Слайд 1</dc:title>
</cp:coreProperties>
</file>